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FD05-E1FF-4D99-988C-506D5594D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E551-D0C9-40B3-A61B-C2186AFBD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note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FFF-6827-41CC-90CF-999EAC35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9A4-9EF8-478F-B0B6-F7B21134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212-66CF-4B20-B976-C0361704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B16-9588-4005-8B5E-28850854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EDA-0C72-41A5-9C37-E50C930C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4AA-A8C5-4805-B64E-6E17D34E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1F2-87F6-42E9-9E8D-516113A4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C41-AD64-4C5A-B4ED-0867C48C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128-2457-4AFE-A21B-E74034B0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EC0A-7ED9-495F-8960-EEBDDAA0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8E6-BBC9-4D37-AFD3-BA6E243A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A5D-0A19-47D8-A06D-3CF56A0C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49E5-824D-42B5-BA0C-B5FA170C8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23.xml"/><Relationship Id="rId8" Type="http://schemas.openxmlformats.org/officeDocument/2006/relationships/slide" Target="slide33.xml"/><Relationship Id="rId9" Type="http://schemas.openxmlformats.org/officeDocument/2006/relationships/slide" Target="slide43.xml"/><Relationship Id="rId10" Type="http://schemas.openxmlformats.org/officeDocument/2006/relationships/slide" Target="slide15.xml"/><Relationship Id="rId11" Type="http://schemas.openxmlformats.org/officeDocument/2006/relationships/slide" Target="slide17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slide" Target="slide25.xml"/><Relationship Id="rId15" Type="http://schemas.openxmlformats.org/officeDocument/2006/relationships/slide" Target="slide27.xml"/><Relationship Id="rId16" Type="http://schemas.openxmlformats.org/officeDocument/2006/relationships/slide" Target="slide29.xml"/><Relationship Id="rId17" Type="http://schemas.openxmlformats.org/officeDocument/2006/relationships/slide" Target="slide31.xml"/><Relationship Id="rId18" Type="http://schemas.openxmlformats.org/officeDocument/2006/relationships/slide" Target="slide35.xml"/><Relationship Id="rId19" Type="http://schemas.openxmlformats.org/officeDocument/2006/relationships/slide" Target="slide45.xml"/><Relationship Id="rId20" Type="http://schemas.openxmlformats.org/officeDocument/2006/relationships/slide" Target="slide37.xml"/><Relationship Id="rId21" Type="http://schemas.openxmlformats.org/officeDocument/2006/relationships/slide" Target="slide47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eopardy For OMM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(by ESL 4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period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ñora Ma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362320" y="2209680"/>
            <a:ext cx="419076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209680" y="2514600"/>
            <a:ext cx="5029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362320" y="2971800"/>
            <a:ext cx="4800600" cy="175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124080" y="2666880"/>
            <a:ext cx="4267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743200" y="2133720"/>
            <a:ext cx="502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505320" y="2819520"/>
            <a:ext cx="3200400" cy="175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895480" y="2971800"/>
            <a:ext cx="472464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895480" y="3200400"/>
            <a:ext cx="381024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3"/>
          <p:cNvSpPr/>
          <p:nvPr/>
        </p:nvSpPr>
        <p:spPr>
          <a:xfrm>
            <a:off x="76320" y="228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76320" y="14479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2"/>
          <p:cNvSpPr/>
          <p:nvPr/>
        </p:nvSpPr>
        <p:spPr>
          <a:xfrm>
            <a:off x="7391520" y="228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Steinbe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3"/>
          <p:cNvSpPr/>
          <p:nvPr/>
        </p:nvSpPr>
        <p:spPr>
          <a:xfrm>
            <a:off x="5486400" y="228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ue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ls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4"/>
          <p:cNvSpPr/>
          <p:nvPr/>
        </p:nvSpPr>
        <p:spPr>
          <a:xfrm>
            <a:off x="3581280" y="2286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pee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5"/>
          <p:cNvSpPr/>
          <p:nvPr/>
        </p:nvSpPr>
        <p:spPr>
          <a:xfrm>
            <a:off x="1981080" y="22860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36"/>
          <p:cNvSpPr/>
          <p:nvPr/>
        </p:nvSpPr>
        <p:spPr>
          <a:xfrm>
            <a:off x="76320" y="24382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7"/>
          <p:cNvSpPr/>
          <p:nvPr/>
        </p:nvSpPr>
        <p:spPr>
          <a:xfrm>
            <a:off x="76320" y="3505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8"/>
          <p:cNvSpPr/>
          <p:nvPr/>
        </p:nvSpPr>
        <p:spPr>
          <a:xfrm>
            <a:off x="76320" y="4648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9"/>
          <p:cNvSpPr/>
          <p:nvPr/>
        </p:nvSpPr>
        <p:spPr>
          <a:xfrm>
            <a:off x="76320" y="57150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0"/>
          <p:cNvSpPr/>
          <p:nvPr/>
        </p:nvSpPr>
        <p:spPr>
          <a:xfrm>
            <a:off x="1905120" y="14479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1"/>
          <p:cNvSpPr/>
          <p:nvPr/>
        </p:nvSpPr>
        <p:spPr>
          <a:xfrm>
            <a:off x="3657600" y="14479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2"/>
          <p:cNvSpPr/>
          <p:nvPr/>
        </p:nvSpPr>
        <p:spPr>
          <a:xfrm>
            <a:off x="5562720" y="14479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8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3"/>
          <p:cNvSpPr/>
          <p:nvPr/>
        </p:nvSpPr>
        <p:spPr>
          <a:xfrm>
            <a:off x="7467480" y="14479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9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4"/>
          <p:cNvSpPr/>
          <p:nvPr/>
        </p:nvSpPr>
        <p:spPr>
          <a:xfrm>
            <a:off x="1905120" y="24382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0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5"/>
          <p:cNvSpPr/>
          <p:nvPr/>
        </p:nvSpPr>
        <p:spPr>
          <a:xfrm>
            <a:off x="1905120" y="35053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6"/>
          <p:cNvSpPr/>
          <p:nvPr/>
        </p:nvSpPr>
        <p:spPr>
          <a:xfrm>
            <a:off x="1905120" y="46483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7"/>
          <p:cNvSpPr/>
          <p:nvPr/>
        </p:nvSpPr>
        <p:spPr>
          <a:xfrm>
            <a:off x="1905120" y="57150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3657600" y="2438280"/>
            <a:ext cx="16765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4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9"/>
          <p:cNvSpPr/>
          <p:nvPr/>
        </p:nvSpPr>
        <p:spPr>
          <a:xfrm>
            <a:off x="3657600" y="3505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0"/>
          <p:cNvSpPr/>
          <p:nvPr/>
        </p:nvSpPr>
        <p:spPr>
          <a:xfrm>
            <a:off x="3657600" y="4648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1"/>
          <p:cNvSpPr/>
          <p:nvPr/>
        </p:nvSpPr>
        <p:spPr>
          <a:xfrm>
            <a:off x="3657600" y="57150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2"/>
          <p:cNvSpPr/>
          <p:nvPr/>
        </p:nvSpPr>
        <p:spPr>
          <a:xfrm>
            <a:off x="5562720" y="24382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3"/>
          <p:cNvSpPr/>
          <p:nvPr/>
        </p:nvSpPr>
        <p:spPr>
          <a:xfrm>
            <a:off x="7467480" y="2438280"/>
            <a:ext cx="16765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4"/>
          <p:cNvSpPr/>
          <p:nvPr/>
        </p:nvSpPr>
        <p:spPr>
          <a:xfrm>
            <a:off x="5562720" y="3505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5"/>
          <p:cNvSpPr/>
          <p:nvPr/>
        </p:nvSpPr>
        <p:spPr>
          <a:xfrm>
            <a:off x="7467480" y="3505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6"/>
          <p:cNvSpPr/>
          <p:nvPr/>
        </p:nvSpPr>
        <p:spPr>
          <a:xfrm>
            <a:off x="5562720" y="4648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7"/>
          <p:cNvSpPr/>
          <p:nvPr/>
        </p:nvSpPr>
        <p:spPr>
          <a:xfrm>
            <a:off x="7467480" y="4648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3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8"/>
          <p:cNvSpPr/>
          <p:nvPr/>
        </p:nvSpPr>
        <p:spPr>
          <a:xfrm>
            <a:off x="5562720" y="57150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4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9"/>
          <p:cNvSpPr/>
          <p:nvPr/>
        </p:nvSpPr>
        <p:spPr>
          <a:xfrm>
            <a:off x="7467480" y="57150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14400" y="21337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895480" y="2590920"/>
            <a:ext cx="4114800" cy="190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971800" y="2666880"/>
            <a:ext cx="320040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124080" y="3429000"/>
            <a:ext cx="350532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048120" y="3048120"/>
            <a:ext cx="419076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276720" y="2895480"/>
            <a:ext cx="39621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895480" y="3124080"/>
            <a:ext cx="4038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24080" y="2438280"/>
            <a:ext cx="2971800" cy="274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971800" y="2895480"/>
            <a:ext cx="29718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048120" y="3124080"/>
            <a:ext cx="358128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200400" y="2590920"/>
            <a:ext cx="3124080" cy="21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429000" y="2971800"/>
            <a:ext cx="3809880" cy="19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438280" y="2819520"/>
            <a:ext cx="4496040" cy="21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819520" y="3124080"/>
            <a:ext cx="426708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124080" y="2514600"/>
            <a:ext cx="42674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971800" y="2438280"/>
            <a:ext cx="403848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48120" y="2057400"/>
            <a:ext cx="304776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8120" y="2743200"/>
            <a:ext cx="388620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209680" y="281952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429000" y="2514600"/>
            <a:ext cx="3733920" cy="259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895480" y="2666880"/>
            <a:ext cx="297180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438280" y="3048120"/>
            <a:ext cx="48006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352680" y="3200400"/>
            <a:ext cx="3353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14600" y="3048120"/>
            <a:ext cx="4724280" cy="21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133720" y="2743200"/>
            <a:ext cx="5105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6:15:24Z</dcterms:created>
  <dc:creator>anyone</dc:creator>
  <dc:description/>
  <dc:language>en-US</dc:language>
  <cp:lastModifiedBy>Rosie</cp:lastModifiedBy>
  <dcterms:modified xsi:type="dcterms:W3CDTF">2009-06-30T02:34:35Z</dcterms:modified>
  <cp:revision>33</cp:revision>
  <dc:subject/>
  <dc:title>Welcome to Jeopardy!</dc:title>
</cp:coreProperties>
</file>